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9.png" ContentType="image/png"/>
  <Override PartName="/ppt/media/image27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6DE8-1053-41BD-928E-11B55575F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1813-8DC4-4217-9200-13B922A1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969B-4470-4408-8E44-BE689CE7A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FD82-3FCA-4A39-9339-5EA1742DC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96F7-0CA1-4259-BB4B-3B7FDF981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DE64-16FC-48A0-921D-483F998B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27CA-7F3D-461A-9637-9DE04471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68DC-936F-4A9D-8026-3F88E30B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B53D-6F8A-4D50-B3DC-43E8B1E9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1146-66E0-4035-B252-BCA1660E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7519-4287-48CC-ACD0-BE05F0B6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F7FF-D231-4A5D-A2F4-32DB7B66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623B-5012-43FA-A5EE-7046EC9D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EDA9-14C3-4165-827D-B886D9FB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D0B8-D8B3-4052-9515-2239F3D2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BBD3-72BA-4875-9887-92004DFBF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8B66-F5DD-466B-AB11-24CD4A8FD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6D0C-2B2F-4969-A868-2BFCECA6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5DC7-EF9E-4CA7-A8F8-5359FC4F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7938-85B9-4DCD-9E18-69B933CB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3B23-B978-4407-831A-46C367FB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6A31-3F41-4CE0-9B58-DD769D7B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AAE8-2E4B-463B-BBE9-386F060D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625F-DF37-4F80-9941-1CD72668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41CC-1024-43FD-BAE8-2AB91DEDCF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1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B98E-9360-47F5-8C81-F807CA1910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hapter 39: The Stormy Sixties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uban Missile Crisi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erial photographs of Cuba showed that Soviets were installing nuclear missiles in Cub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weapons to blackmail US into backing down in Berlin &amp; elsewher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FK orders naval quarantine of Cuba &amp; demanded immediate removal of threatening weapon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ld Khrushchev that any attack on US from Cuba would be seen as attack by USSR &amp; would trigger retaliation against USS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uban Missile Crisi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ericans waited while USSR ships approached patrol line established by US nav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ba prepared to launch nuclear weapons if attack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ct. 28, 1962: Khrushchev agrees to pull missiles out of Cub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 agrees to end quarantine in Cub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 also agrees to remove missiles in Turke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SR humiliated, launches program of military expan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5" descr="c06_01474139"/>
          <p:cNvPicPr/>
          <p:nvPr/>
        </p:nvPicPr>
        <p:blipFill>
          <a:blip r:embed="rId1"/>
          <a:stretch/>
        </p:blipFill>
        <p:spPr>
          <a:xfrm>
            <a:off x="0" y="0"/>
            <a:ext cx="5486400" cy="3541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s_c03_10231624"/>
          <p:cNvPicPr/>
          <p:nvPr/>
        </p:nvPicPr>
        <p:blipFill>
          <a:blip r:embed="rId2"/>
          <a:stretch/>
        </p:blipFill>
        <p:spPr>
          <a:xfrm>
            <a:off x="0" y="3656160"/>
            <a:ext cx="4867200" cy="3201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s_c07_10220122"/>
          <p:cNvPicPr/>
          <p:nvPr/>
        </p:nvPicPr>
        <p:blipFill>
          <a:blip r:embed="rId3"/>
          <a:stretch/>
        </p:blipFill>
        <p:spPr>
          <a:xfrm>
            <a:off x="4876920" y="3573360"/>
            <a:ext cx="42670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1962_cuban_missile"/>
          <p:cNvPicPr/>
          <p:nvPr/>
        </p:nvPicPr>
        <p:blipFill>
          <a:blip r:embed="rId1"/>
          <a:stretch/>
        </p:blipFill>
        <p:spPr>
          <a:xfrm>
            <a:off x="304920" y="533520"/>
            <a:ext cx="8683560" cy="50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ruggle for Civil Righ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FK campaigned w/ strong appeal to black vo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reedom Rid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llowed sit-in mo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nted to end segregation on interstate bu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ten ended violentl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deral marshals sent to protect Freedom Rid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5" descr="ANd9GcRuaDeSkD136Cl4EF-WwKHgiGu7zYWKaJxWCJNqQnH7TqdQgRTE"/>
          <p:cNvPicPr/>
          <p:nvPr/>
        </p:nvPicPr>
        <p:blipFill>
          <a:blip r:embed="rId1"/>
          <a:stretch/>
        </p:blipFill>
        <p:spPr>
          <a:xfrm>
            <a:off x="6705720" y="5342040"/>
            <a:ext cx="243828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ruggle for Civil Righ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egregation- JFK sent troops to University of Mississippi to integrate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LK led protest in Birmingham, AL (most segregated big city in US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aceful civil rights marchers met violence (water hos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FK gives public speech, commits himself to finding a solu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5" descr="Screen%20shot%202010-03-17%20at%209"/>
          <p:cNvPicPr/>
          <p:nvPr/>
        </p:nvPicPr>
        <p:blipFill>
          <a:blip r:embed="rId1"/>
          <a:stretch/>
        </p:blipFill>
        <p:spPr>
          <a:xfrm>
            <a:off x="7238880" y="5587920"/>
            <a:ext cx="19051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ruggle for Civil Righ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tin Luther King, Jr. 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“March on Washington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support of JFK proposed legisl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LK gives “I have a dream” speech from the Lincoln memor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gar Ev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5" descr="url"/>
          <p:cNvPicPr/>
          <p:nvPr/>
        </p:nvPicPr>
        <p:blipFill>
          <a:blip r:embed="rId1"/>
          <a:stretch/>
        </p:blipFill>
        <p:spPr>
          <a:xfrm>
            <a:off x="5181480" y="3852720"/>
            <a:ext cx="3962520" cy="3005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king"/>
          <p:cNvPicPr/>
          <p:nvPr/>
        </p:nvPicPr>
        <p:blipFill>
          <a:blip r:embed="rId2"/>
          <a:stretch/>
        </p:blipFill>
        <p:spPr>
          <a:xfrm>
            <a:off x="3460680" y="4419720"/>
            <a:ext cx="1739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ennedy’s Assassin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vember 22, 196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FK shot by concealed rifleman &amp; died w/in seconds in Dallas, Tex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eged assassin: Lee Harvey Oswa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t in front of TV cameras by Jack Ru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ubts &amp; theories about what really happen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nned nation griev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JFK-and-Jackie-in-Dallas"/>
          <p:cNvPicPr/>
          <p:nvPr/>
        </p:nvPicPr>
        <p:blipFill>
          <a:blip r:embed="rId1"/>
          <a:stretch/>
        </p:blipFill>
        <p:spPr>
          <a:xfrm>
            <a:off x="1219320" y="0"/>
            <a:ext cx="6705360" cy="3476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LHO9"/>
          <p:cNvPicPr/>
          <p:nvPr/>
        </p:nvPicPr>
        <p:blipFill>
          <a:blip r:embed="rId2"/>
          <a:stretch/>
        </p:blipFill>
        <p:spPr>
          <a:xfrm>
            <a:off x="2286000" y="3833640"/>
            <a:ext cx="4419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80880" y="76320"/>
          <a:ext cx="8534520" cy="6781680"/>
        </p:xfrm>
        <a:graphic>
          <a:graphicData uri="http://schemas.openxmlformats.org/drawingml/2006/table">
            <a:tbl>
              <a:tblPr/>
              <a:tblGrid>
                <a:gridCol w="4267440"/>
                <a:gridCol w="4267080"/>
              </a:tblGrid>
              <a:tr h="47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col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nned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coln was elected to Congress in 184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nnedy was elected to Congress in 194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 was elected President in 186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 was elected President in 196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s wife lost a child while living in the White Hous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s wife lost a child while living in the White Hous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 was directly concerned with Civil Right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 was directly concerned with Civil Right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coln had a secretary named Kennedy who told him not to go to the theater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nnedy had a secretary named Lincoln who told him not to go to Dallas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coln was shot in the back of the head in the presence of his wif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nnedy was shot in the back of the head in the presence of his wif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coln shot in the Ford Theatr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nnedy shot in a Lincoln, made by For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 was shot on a Frida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 was shot on a Frida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assassin, John Wilkes Booth, was known by three names, comprised of fifteen letter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assassin, Lee Harvey Oswald, was known by three names, comprised of fifteen letter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oth shot Lincoln in a theater and fled to a warehouse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swald shot Kennedy from a warehouse and fled to a theater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oth was killed before being brought to tria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swald was killed before being brought to tria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re were theories that Booth was part of a greater conspirac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re were theories that Oswald was part of a greater conspirac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coln's successor was Andrew Johnson, born in 180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nnedy's successor was Lyndon Johnson, born in 190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ennedy’s New Fronti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ngest president ever elec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ng &amp; bright men surrounded Kenne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Fronti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osed Peace Corp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k not what your country can do for you, but what you can do for your country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jackie_kennedy"/>
          <p:cNvPicPr/>
          <p:nvPr/>
        </p:nvPicPr>
        <p:blipFill>
          <a:blip r:embed="rId1"/>
          <a:stretch/>
        </p:blipFill>
        <p:spPr>
          <a:xfrm>
            <a:off x="4267080" y="5029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ssassination Afterma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P Johnson is sworn in as president prompt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FK is acclaimed for the spirit he kindled rather than the concrete goals he achiev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FK captivated Americ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5" descr="lbj_and_jfk"/>
          <p:cNvPicPr/>
          <p:nvPr/>
        </p:nvPicPr>
        <p:blipFill>
          <a:blip r:embed="rId1"/>
          <a:stretch/>
        </p:blipFill>
        <p:spPr>
          <a:xfrm>
            <a:off x="5105520" y="3992400"/>
            <a:ext cx="403848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yndon B. Johnson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ows to honor JFK by passing Civil Rights Bill that he fought f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ivil Rights Act of 1964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anned racial discrimination in private facilities open to publ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ngthened gov. power to end segreg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d Equal Employment Opportunity Commiss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so enforced gender equa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r on Poverty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eat Society- sweeping set of economic &amp; welfare measures aimed at transforming American way of lif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ection of 1964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ocrat: LB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ublican: Barry Gold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acked federal income tax, social security, TVA, civil rights, Great Socie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BJ wi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nnedy legacy, Great Society, fear of Gold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7370640" y="4495680"/>
            <a:ext cx="17733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486640" cy="45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reat Society Congres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ood of legisl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ubled appropriation of Office of Economic Opportun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partment of Transportation &amp; Department of Housing and Urban Developmen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g fou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71640" indent="-514440"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d to edu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71640" indent="-514440"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dical care for elder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71640" indent="-514440"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migration refor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71640" indent="-514440"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w voting rights bil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reat Society Congre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icare &amp; Medicaid, 196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mmigration and Nationality Act of 1965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bolished national origins quota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uble number of immigrants allowed to enter US annuall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ifts from Europe to Latin America &amp; As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ttling for Black Righ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Voting Rights Act of 196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outlawed discriminatory voting pract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l tax, literacy te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ivil Rights Act of 196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gave federal government more power to enforce school desegregation &amp; prohibit racial discrimin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mendment- abolished poll tax in federal ele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ttling for Black Righ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edom Summer of 1964- register as many African American voters in Mississipp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LK led voter-registration campaign in 1965 in Selma, Alaba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 w/ violence- tear gas &amp; whip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rimination did not end overnight, but change was n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ck southerners now had more pow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ging “We Shall Overcome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697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lack Power Move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phase of black strugg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ked by militant confront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alcolm 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ached black separatis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l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t in 1965 by rival Nation of Islam in NY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eat of violence arose in black commun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6765840" y="0"/>
            <a:ext cx="2378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ennedy’s New Fronti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ical assistance for elder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d federal aid to edu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 resistance in Cong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 tax-cut b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 resistance from big busi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billion dollar project to land America on the mo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5" descr="ST-C22-1-62"/>
          <p:cNvPicPr/>
          <p:nvPr/>
        </p:nvPicPr>
        <p:blipFill>
          <a:blip r:embed="rId1"/>
          <a:stretch/>
        </p:blipFill>
        <p:spPr>
          <a:xfrm>
            <a:off x="7077240" y="2438280"/>
            <a:ext cx="2066760" cy="2113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220px-JohnFK"/>
          <p:cNvPicPr/>
          <p:nvPr/>
        </p:nvPicPr>
        <p:blipFill>
          <a:blip r:embed="rId2"/>
          <a:stretch/>
        </p:blipFill>
        <p:spPr>
          <a:xfrm>
            <a:off x="5181480" y="5105520"/>
            <a:ext cx="14335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lack Pow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lack Panther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party that openly carried weapons &amp; sought to achieve black power through viol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okely Carmicha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“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lack Power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increased fears of whi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spcBef>
                <a:spcPts val="57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Some insisted they only wanted civil right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spcBef>
                <a:spcPts val="57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Separatist meaning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spcBef>
                <a:spcPts val="57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Emphasized African American distinctivenes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spcBef>
                <a:spcPts val="57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Afro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spcBef>
                <a:spcPts val="57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Shed “white” names for new African identitie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spcBef>
                <a:spcPts val="57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Demanded black studies program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676520" cy="1639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7162920" y="0"/>
            <a:ext cx="198108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lack Pow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ck riots erupted around the 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th focused more on economic dema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ack unemployment rate double that for whi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ril 4, 1968- MLK shot &amp; killed in Memph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tyr for just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bbed Americans of truly inspirational lea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d violence in anger of his dea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7105680" y="3962520"/>
            <a:ext cx="2038320" cy="116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LK legac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ter registration in south shot upwa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ral hundred blacks elected to off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1972, ½ of black children sat in integrated classro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/3 of black families rose to middle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cial prog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5791320" y="4627440"/>
            <a:ext cx="335268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ection of 1968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bert Kennedy campaigned for Democratic nomination, kil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ocrat: Hubert H. Humphrey (LBJ VP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BJ does not run: lost popularity due to Vietn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ublican: Richard Nix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nted to restore law &amp; or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ealed to white southern vo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erican Independent Party: George C. Walla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ection of 1968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xon wi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ried not a single major 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wed his election to divisions over the w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llace: largest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arty popular vote in US hi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4038480" y="4522680"/>
            <a:ext cx="43434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bituary of LBJ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turned to his TX ranch in 1969, died 4 yrs. l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president since Lincoln had done so much for civil righ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assion for poor, blacks, &amp; ill-educ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’s president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st popularity b/c of Vietn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7086600" y="4073400"/>
            <a:ext cx="205740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n on the Mo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why, some say, the moon?... And they may well ask, why climb the highest mountain? Why, thirty-five years ago, fly the Atlantic? Why does Rice play Texas?”- John F. Kenned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5" descr="neil-armstrong-on-the-moon1"/>
          <p:cNvPicPr/>
          <p:nvPr/>
        </p:nvPicPr>
        <p:blipFill>
          <a:blip r:embed="rId1"/>
          <a:stretch/>
        </p:blipFill>
        <p:spPr>
          <a:xfrm>
            <a:off x="4114800" y="3645000"/>
            <a:ext cx="32623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n on the Mo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small step for man; one giant leap for mankind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7" descr="220px-Neil_Armstrong_pose"/>
          <p:cNvPicPr/>
          <p:nvPr/>
        </p:nvPicPr>
        <p:blipFill>
          <a:blip r:embed="rId1"/>
          <a:stretch/>
        </p:blipFill>
        <p:spPr>
          <a:xfrm>
            <a:off x="1066680" y="2971800"/>
            <a:ext cx="3054600" cy="3886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1101681206_400"/>
          <p:cNvPicPr/>
          <p:nvPr/>
        </p:nvPicPr>
        <p:blipFill>
          <a:blip r:embed="rId2"/>
          <a:stretch/>
        </p:blipFill>
        <p:spPr>
          <a:xfrm>
            <a:off x="5105520" y="3124080"/>
            <a:ext cx="28335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blems in Europ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viets construct Berlin Wall, August 196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igned to prevent population drain from East to West German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mbolized division of Europ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FK turns attention to Western Europ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e Expansion Act- authorizes tariff cuts up to 50 percent to promote tra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on Market: free-trade area later called European Un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5" descr="berlin-wall"/>
          <p:cNvPicPr/>
          <p:nvPr/>
        </p:nvPicPr>
        <p:blipFill>
          <a:blip r:embed="rId1"/>
          <a:stretch/>
        </p:blipFill>
        <p:spPr>
          <a:xfrm>
            <a:off x="457200" y="304920"/>
            <a:ext cx="8077320" cy="63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lexible Respons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blems for US foreign policy arose from worldwide decolonization after WWI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rican Congo received independence from Belgium, 196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 sends peacekeeping for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 provided money to Laos to prevent communism, fail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exible Response=developing an array of military options that could be matched w/ the gravity of crisis at h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uban Confrontation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lliance for Progress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Marshall Plan for Latin America) Help LA close gap between rich &amp; poor, quieting communist aggre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Bay of Pigs Invas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cheme to topple Castro from power by invading Cuba w/ anticommunist exi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cked by trained &amp; armed Americ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pril 17, 1961- 1200 exiles landed @ Cuba’s Bay of Pig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 match for Castro’s for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t met by popular uprising in Cub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ailed invasion- exiles sent to prison &amp; eventually ransom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FK took full responsibility for failur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5" descr="300px-BayofPigs"/>
          <p:cNvPicPr/>
          <p:nvPr/>
        </p:nvPicPr>
        <p:blipFill>
          <a:blip r:embed="rId1"/>
          <a:stretch/>
        </p:blipFill>
        <p:spPr>
          <a:xfrm>
            <a:off x="5486400" y="5516640"/>
            <a:ext cx="36576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16:43:56Z</dcterms:created>
  <dc:creator>emily.johnson</dc:creator>
  <dc:description/>
  <dc:language>en-US</dc:language>
  <cp:lastModifiedBy>emily.johnson</cp:lastModifiedBy>
  <dcterms:modified xsi:type="dcterms:W3CDTF">2013-04-15T12:21:52Z</dcterms:modified>
  <cp:revision>13</cp:revision>
  <dc:subject/>
  <dc:title>Chapter 39: The Stormy Sixties </dc:title>
</cp:coreProperties>
</file>